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0101-9892-4B50-A910-6415D3A49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89F8-4839-4434-92AB-28CD9870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2E7E-7654-468A-B7D0-534AE4FB0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83BA-333C-44C9-A8A0-3B317EDBC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8B8E-90B2-4102-AA2A-B283C7C9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2B7F-45F1-4D00-889B-DA6FFD20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6909-1B21-4C3D-A87E-45E84583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AF20-F745-4BA1-8BF2-87E72127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78A7-A91C-4B08-957E-F4390E15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3715-557F-4115-8B02-AC179D1E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0842-2482-4388-A13E-6DD39296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2A40-6A74-4FF8-90A0-A85B7D2B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C7C6-F338-462F-B55E-D61918D2C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195640" y="5229360"/>
            <a:ext cx="3867120" cy="4172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ославените 144 000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916360" y="5732640"/>
            <a:ext cx="23763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Божия съд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1547640" y="855720"/>
            <a:ext cx="28958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5: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79280" y="1773360"/>
            <a:ext cx="5305680" cy="2171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видях нещо като стъклено море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размесено с огън, и тези, кои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яха победили звяра и образа му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числото на името му, стоях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и стъкленото море, ка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ържаха Божии арфи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1116000" y="222120"/>
          <a:ext cx="6959520" cy="639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222120"/>
                    <a:ext cx="6959520" cy="6394680"/>
                  </a:xfrm>
                  <a:prstGeom prst="rect">
                    <a:avLst/>
                  </a:prstGeom>
                  <a:ln w="9360">
                    <a:solidFill>
                      <a:srgbClr val="ffff79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2340000" y="1195560"/>
            <a:ext cx="2400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4:6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116000" y="2637000"/>
            <a:ext cx="4505400" cy="15714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видях друг ангел, че летеш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ред небето, който имаше вечнот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лаговестие, за да прогласява н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битаващите по земята и на всек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род, племе, език и люде. 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2340000" y="1195560"/>
            <a:ext cx="2400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4:7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116000" y="2637000"/>
            <a:ext cx="4829040" cy="1885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каза със силен глас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ойте се от Бога и Му въздайт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лава, защото настана часът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гато Той ще съди; и се поклонет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 Този, който е направил небет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земята, морето и водните извори. 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2124000" y="83664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4:8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5280" y="2278080"/>
            <a:ext cx="4857840" cy="15717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един друг ангел, втори, следваш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зад и казваше: Падна, падн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еликият Вавилон, който напо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сички народи от виното н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разпалено блудстване. 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868400" y="907920"/>
            <a:ext cx="24004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4:9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24000" y="1844640"/>
            <a:ext cx="4695840" cy="15717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друг, трети ангел, вървеш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лед тях и казваше със силен глас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Ако някои се поклони на звяра 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 неговия образ и приеме белег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 челото или на ръката си, 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868400" y="907920"/>
            <a:ext cx="257184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4:10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24000" y="1844640"/>
            <a:ext cx="4228920" cy="15717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той ще пие от виното на Бож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няв, което е приготвено чисто 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чашата на гнева Му, и ще бъд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ъчен с огън и жупел пред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вятите ангели и пред Агнеца. 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826920" y="744480"/>
          <a:ext cx="3961080" cy="254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744480"/>
                    <a:ext cx="3961080" cy="2540160"/>
                  </a:xfrm>
                  <a:prstGeom prst="rect">
                    <a:avLst/>
                  </a:prstGeom>
                  <a:ln w="25560">
                    <a:solidFill>
                      <a:srgbClr val="c0c0c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868400" y="912960"/>
            <a:ext cx="25718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4:11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24000" y="1844640"/>
            <a:ext cx="5286240" cy="1886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димът от тяхното мъчение щ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е издига до вечни векове; и онези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ито се покланят на звяра и образа му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яма да имат отдих нито денем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ито нощем, нито кой да е, койт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иема белага на името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868400" y="912960"/>
            <a:ext cx="25718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4:12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24000" y="1844640"/>
            <a:ext cx="4800600" cy="9428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Тук е нужно търпението н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ветиите, на тези, които пазя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ожиите заповеди и вярата в Исус. 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135320" y="803160"/>
            <a:ext cx="25146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 Петрово 1:12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44880" y="2349360"/>
            <a:ext cx="5019840" cy="1447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Затова всякога ще бъда готов д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и напомням за тези работи, ак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да ги знаете и да сте утвърден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 истината, която сега държите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324000" y="2276640"/>
            <a:ext cx="4257360" cy="1447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Времето се изпълни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Божието царство наближи;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окайте се и повярвай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 благовестието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51080" y="836640"/>
            <a:ext cx="16002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арко 1:15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2340000" y="1195560"/>
            <a:ext cx="2400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4:6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16000" y="2637000"/>
            <a:ext cx="4505400" cy="15714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видях друг ангел, че летеш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ред небето, който имаше вечнот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лаговестие, за да прогласява н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битаващите по земята и на всек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род, племе, език и люде. 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2340000" y="1195560"/>
            <a:ext cx="2400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4:7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16000" y="2637000"/>
            <a:ext cx="4829040" cy="1885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каза със силен глас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ойте се от Бога и Му въздайт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лава, защото настана часът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гато Той ще съди; и се поклонет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 Този, който е направил небет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земята, морето и водните извори. 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2320920" y="798480"/>
            <a:ext cx="17524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атей 24:14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9640" y="2637000"/>
            <a:ext cx="3533760" cy="2533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това благовестие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царството ще бъд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оповядван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о целия свят з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видетелство на всичк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роди; и тогава щ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ойде краят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2738520" y="803160"/>
            <a:ext cx="176220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еяния 4:12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6840" y="1844640"/>
            <a:ext cx="5267160" cy="1447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чрез никой друг няма спасение;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щото няма под небето друго им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дено на човеците, чрез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ето трябва да се спасим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379680" y="765000"/>
            <a:ext cx="28479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4:1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140360" y="2647800"/>
            <a:ext cx="4886280" cy="21718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видях, и, ето, Агнецът стоеш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 хълма Сион и с Него с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четиридесет и четири хиляди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ито носеха Неговото име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мето на Неговия Отец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писано на челата им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1763640" y="836640"/>
            <a:ext cx="32576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 Коринтяни 5:10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4000" y="2205000"/>
            <a:ext cx="3943080" cy="21718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Защото всички трябва д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станем открити пред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Христовото съдилище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 да получи всеки според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аквото е правил в тялото -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ило добро или зло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2340000" y="817560"/>
            <a:ext cx="20574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наил 7:9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66760" y="2133720"/>
            <a:ext cx="4191120" cy="2514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Гледах докато бяха положени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естоли, и Старият по дн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една, Чието облекло беш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яло като сняг, и кокосмит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 главата Му - като чист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ълна, престолът Му - огнен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ламъци, и колелата Му -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920" y="4743360"/>
            <a:ext cx="1873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ламтящ огън. "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2340000" y="817560"/>
            <a:ext cx="17906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наил 7:10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44440" y="2138400"/>
            <a:ext cx="3895920" cy="2533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Огнена река излизаше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ечеше пред Него; милион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лужители Му слугуваха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мириади по мириад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тояха пред Него;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ъдилището бе открито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нигите се отворих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419640" y="4869000"/>
            <a:ext cx="5724360" cy="1989000"/>
          </a:xfrm>
          <a:prstGeom prst="rect">
            <a:avLst/>
          </a:prstGeom>
          <a:gradFill rotWithShape="0">
            <a:gsLst>
              <a:gs pos="0">
                <a:srgbClr val="663300">
                  <a:alpha val="82352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18040" y="5737320"/>
            <a:ext cx="23623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Уилям Милър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2340000" y="2852640"/>
            <a:ext cx="55720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5"/>
                    </a:gs>
                    <a:gs pos="100000">
                      <a:srgbClr val="ff99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Еволюция или Сътворени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5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2340000" y="1195560"/>
            <a:ext cx="2400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4:7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116000" y="2637000"/>
            <a:ext cx="4829040" cy="1885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каза със силен глас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ойте се от Бога и Му въздайт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лава, защото настана часът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гато Той ще съди; и се поклонет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 Този, който е направил небет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земята, морето и водните извори. 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771560" y="803160"/>
            <a:ext cx="24004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Еремия 10:11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9640" y="1989000"/>
            <a:ext cx="3067200" cy="2533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“ </a:t>
            </a: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ака ще им речете: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ния богове, кои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е са направил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ебето и земята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! - те ще изчезна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 земята и изпод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ова небе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771560" y="803160"/>
            <a:ext cx="24004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Еремия 10:12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9640" y="1989000"/>
            <a:ext cx="3171960" cy="2533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“ </a:t>
            </a: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ой направи земят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ъс силата Си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Утвърди света с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ъдростта Си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разпростря небе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 разума Си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3379680" y="765000"/>
            <a:ext cx="28479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4:2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00720" y="2647800"/>
            <a:ext cx="4514760" cy="1810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чух глас от небето, ка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лас от много води и като глас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 гръм; и гласът, който чух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еше като глас на свирачи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ито свиреха с арфите си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2178000" y="803160"/>
            <a:ext cx="17524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зход 20:11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95280" y="2060640"/>
            <a:ext cx="4371840" cy="2171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“ </a:t>
            </a: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щото в шест дни Господ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прави небето и земята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орето и всичко което е в тях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а на седмия ден си почина;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това Господ благослов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ъботния ден и го освети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324000" y="2421000"/>
            <a:ext cx="4371840" cy="15714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“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А Бог, без да държи сметк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 времената на невежеството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ега заповядва на всички човец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всякъде да се покаят. “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494080" y="836640"/>
            <a:ext cx="19335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еяния 17:30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2494080" y="836640"/>
            <a:ext cx="19335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еяния 17:31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5280" y="2421000"/>
            <a:ext cx="3962520" cy="2895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“ </a:t>
            </a: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щото е назначил ден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гато ще съди свет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праведливо чрез Човека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гото е определил; з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ето и е дал уверени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 всички, като Го 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ъзкресил от мъртвите. “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46120" y="1700280"/>
            <a:ext cx="4170240" cy="3127320"/>
          </a:xfrm>
          <a:prstGeom prst="rect">
            <a:avLst/>
          </a:prstGeom>
          <a:ln w="25560">
            <a:solidFill>
              <a:srgbClr val="e0b500"/>
            </a:solidFill>
            <a:miter/>
          </a:ln>
        </p:spPr>
      </p:pic>
      <p:sp>
        <p:nvSpPr>
          <p:cNvPr id="155" name=""/>
          <p:cNvSpPr txBox="1"/>
          <p:nvPr/>
        </p:nvSpPr>
        <p:spPr>
          <a:xfrm>
            <a:off x="1776240" y="836640"/>
            <a:ext cx="27244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ледва: 19 декемвр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5084640"/>
            <a:ext cx="4600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0b5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истичният  Вавилон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0b5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0b5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0b5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0b5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еликото предупреждение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0b5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7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379680" y="765000"/>
            <a:ext cx="28479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4:3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140360" y="2647800"/>
            <a:ext cx="4886280" cy="21718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пееха като че ли нова песен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ед престола и пред четири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живи същества и старейшините;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никой не можеше да науч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есента, освен сто четиридесе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четирите хиляди, кои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48360" y="4941720"/>
            <a:ext cx="3914640" cy="3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а били изкупени от земята. 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379680" y="765000"/>
            <a:ext cx="28479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4: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51280" y="2647800"/>
            <a:ext cx="5172120" cy="21718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Те са онези, които не са с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сквернили с жени, защото с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целомъдрени; те са, които следва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Агнеца, където и да отива; 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а били изкупени между човеците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ато  първи плодове на Бог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219800" y="4941720"/>
            <a:ext cx="18162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на Агнеца. "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379680" y="765000"/>
            <a:ext cx="28479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4:5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992840" y="2647800"/>
            <a:ext cx="3971880" cy="723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в устата им няма лъжа;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е са непорочни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13:53:55Z</dcterms:created>
  <dc:creator>The Mind</dc:creator>
  <dc:description/>
  <dc:language>en-US</dc:language>
  <cp:lastModifiedBy>The Mind</cp:lastModifiedBy>
  <dcterms:modified xsi:type="dcterms:W3CDTF">2004-12-12T13:43:00Z</dcterms:modified>
  <cp:revision>16</cp:revision>
  <dc:subject/>
  <dc:title>Slide 1</dc:title>
</cp:coreProperties>
</file>